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7315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ADA7891-A20A-47CE-8C5A-337DD43181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C06C6E5-DB5F-4FF7-B8BE-0CE6BD221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EB04B1C-952E-4F65-A328-D3BFE75C54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Header Placeholder 4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11D3-8B45-4183-B0AA-5B4E6996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B0A-7339-4015-A2D6-12976E39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AEC0-4CB5-4863-9D20-20F88919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4B1-5F15-437C-A07E-7DCAE076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7704-F915-4EBC-9948-B8C63484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D2B5-83EC-4644-B30E-297969ED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9D30-2FF6-422B-BE9A-A95FF250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9492-D673-4055-936C-A878347F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2A8-AA76-4DE8-B80A-9D30BC5E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D6A-AB9B-4353-8FF5-0BB47C6D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DFA3-1B86-4BDE-9DBE-67F46594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6464-EA89-4980-B904-9763B8A0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2412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2B055B5-E2DD-466F-AD84-FB0E464EE66E}" type="datetime">
              <a:rPr b="0" lang="en-US" sz="13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780240"/>
            <a:ext cx="304200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8349838-CA3F-43D7-BE0A-12BC066F6B63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4"/>
          <p:cNvSpPr/>
          <p:nvPr/>
        </p:nvSpPr>
        <p:spPr>
          <a:xfrm>
            <a:off x="0" y="2666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5"/>
          <p:cNvSpPr/>
          <p:nvPr/>
        </p:nvSpPr>
        <p:spPr>
          <a:xfrm>
            <a:off x="0" y="4952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7"/>
          <p:cNvSpPr/>
          <p:nvPr/>
        </p:nvSpPr>
        <p:spPr>
          <a:xfrm flipH="1">
            <a:off x="3040200" y="685800"/>
            <a:ext cx="7920" cy="6629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6553080" y="685800"/>
            <a:ext cx="6480" cy="6630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0" y="762120"/>
            <a:ext cx="2666880" cy="13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Letter Relationshi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rite all of your spelling words in ABC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6629400" y="2746440"/>
            <a:ext cx="280044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Nou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st 5 nouns that you see (person, place or thing). Draw a picture for each nou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. penc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160800" y="4952880"/>
            <a:ext cx="3279600" cy="22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urrent skill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Verb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ist 5 verbs (action words) that you did today.  Draw a picture for each verb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. yaw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6629400" y="762120"/>
            <a:ext cx="27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lling (.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out a story you are reading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152280" y="2746440"/>
            <a:ext cx="264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estion (?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be answered by a story’s main character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3352680" y="1219320"/>
            <a:ext cx="25606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each word 3 times in your best handwri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0" y="5257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nbow Spell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udents may type (preferred) or write each word with vowels and consonants in a different font style or col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321000" y="2870280"/>
            <a:ext cx="295920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rite a 4-5 sentence paragraph about your first day of sch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6781680" y="5029200"/>
            <a:ext cx="256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5 sentences that use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otation (“ ”) mark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show someone speaking. Write a conversation by the characters in your re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0" y="0"/>
            <a:ext cx="937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elling Homework for 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The Beginning of the Year.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udents must complete Tic-Tac-Toe (three in a row – and they must use the center square). All work should be completed in the student’s homework journal. The journal, with completed work,  and the board, with parent initials are due: __________________________________________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144792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4800600" y="2209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800100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137160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487692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7924680" y="4572000"/>
            <a:ext cx="16765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1447920" y="691524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2"/>
          <p:cNvSpPr/>
          <p:nvPr/>
        </p:nvSpPr>
        <p:spPr>
          <a:xfrm>
            <a:off x="4648320" y="7010280"/>
            <a:ext cx="1904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3"/>
          <p:cNvSpPr/>
          <p:nvPr/>
        </p:nvSpPr>
        <p:spPr>
          <a:xfrm>
            <a:off x="7848720" y="670572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4" descr=""/>
          <p:cNvPicPr/>
          <p:nvPr/>
        </p:nvPicPr>
        <p:blipFill>
          <a:blip r:embed="rId1"/>
          <a:stretch/>
        </p:blipFill>
        <p:spPr>
          <a:xfrm>
            <a:off x="7315200" y="4419720"/>
            <a:ext cx="533520" cy="514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5" descr=""/>
          <p:cNvPicPr/>
          <p:nvPr/>
        </p:nvPicPr>
        <p:blipFill>
          <a:blip r:embed="rId2"/>
          <a:stretch/>
        </p:blipFill>
        <p:spPr>
          <a:xfrm>
            <a:off x="3505320" y="66294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0:51:53Z</dcterms:created>
  <dc:creator> </dc:creator>
  <dc:description/>
  <dc:language>en-US</dc:language>
  <cp:lastModifiedBy>Mits Mits</cp:lastModifiedBy>
  <cp:lastPrinted>2009-03-12T10:54:35Z</cp:lastPrinted>
  <dcterms:modified xsi:type="dcterms:W3CDTF">2010-08-20T16:03:14Z</dcterms:modified>
  <cp:revision>13</cp:revision>
  <dc:subject/>
  <dc:title>Slide 1</dc:title>
</cp:coreProperties>
</file>